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830-7EEE-4A4E-8748-91515EFE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B77-A390-44B3-81B3-86D7AA45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1E2-BFB7-485B-AD24-B32B26A3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932-31DD-453C-8A03-8574F007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C5BC-E887-4B4C-8DA9-7C965060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7C65-43E9-4D9C-8A22-C35E6DBA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755E-DD68-4351-B7F6-88B29B89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F4C7-358A-4747-93D1-CA0F0325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32B6-F899-4607-B0A4-6FC6783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703F-6130-4190-844A-0500C8A1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9B07-C91B-498C-8651-07C4607C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194-58EC-4424-A00D-F9FB1CC8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A377-9ADB-485E-95AD-A36038C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6D39-6063-4157-87CF-5C804A3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755E-C43D-418E-A2DC-616BEF00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61D8-9754-4A68-821F-94BB5398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5FA2-CB37-47C8-AC48-E6A7C440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B4B1-56D9-4614-8C35-BB4D64A0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1665-87D2-4A81-81CA-43E5466E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0977-42CC-461F-A1DE-0BA371A1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772A-AF27-479B-8ED9-D37DD326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6049-3EEF-4AFD-B5FA-80E60D8D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8B6-4EAB-4DE9-A84B-C140613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D152-5C61-4E0F-ADAF-40B821E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162D9-2C4E-4B62-A762-03402FF2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705BF-DB2F-4E19-8A6B-CB6A558E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6642-6D18-4E4C-8E1F-A04F9A63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9D07-C4E7-497D-A155-A28A2A87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5A36-1684-4014-9F96-CB640425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419F-7906-4930-B81D-968D725D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C27A-3EBE-40DE-A27C-11AB1959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D30C-FF59-494F-AC47-02E6299D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1FAC-B45F-434A-9888-75F99FE9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018-D7CB-4DE0-8751-FC06E331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D965-A32F-4DC3-9356-C5D6A6FF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B2AF-D05E-496F-A19C-A11675F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024B-47D3-4502-950E-2552080E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0103C-2FF0-4BEA-889B-AA9C395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5A25-3CC4-49C0-9C78-13A938D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C6283-D6B7-4EDB-8709-869B9DAA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6ED16-1928-4A2B-98C2-D263598D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6F52-39E0-4FF3-9EE4-5B7E4071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95A4-5BDA-4C21-AFCA-B611E35D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562DB-8C31-4DA7-ABC3-564ED785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4E9-2E5F-47B3-A43D-F9C71D22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85D0A-E421-40A0-9345-9F25EC29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C6E00-995E-4B55-A1BA-B5F18ED6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620EA-521E-4CA5-83DE-72A4CF82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8DE9-2D20-4683-83BD-70BBE9D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5DEA1-3F82-4B6B-A321-14822254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BC46-3251-4D27-8F67-BD967EE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67746-1035-488B-86B3-8550C29F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C815-14FD-436B-AA9B-6C396A18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AD1FD-4DD9-4CE5-BD61-6178978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A714-530C-4357-BD7A-733295AB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22E-8B57-413D-B0B8-EC5F2017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B49CD-6361-4C37-8D81-6D7095F9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100-418C-426D-901B-3EC5ABD0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85C-4AFD-4508-991A-4C2AECB8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574-638B-468C-8A4E-D55143A5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1477-B585-448B-9BC4-D4138D4A443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9F7-BE51-4B52-9633-31FBF61D48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26D8-CFFB-4094-A3B0-B77173360E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92EC-3406-4A25-B7CB-2D0CB8AB07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1019-967D-4698-8A31-47DF12818D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An Action Research Proj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evonne By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EDUC 7021 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Fall 20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vereating and Underachieving:</a:t>
            </a:r>
            <a:br>
              <a:rPr sz="32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Effects of Physical Fitness on the Academic Achievement of Minorit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able of Cont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tr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atement of Probl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view of Related Liter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atement of the Hypothe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th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ticipan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enc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ro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e in every three American child is obese or overweight.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Ogden&amp; Carroll 2010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United States government invests millions of dollars a year into addressing childhood obesity.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U.S. Department of Health and Human Servic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ldren who suffer from obesity have several health risk inclu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gh blood pressu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gh cholesterol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 2 diabete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leep apne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press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d mor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Taras &amp;Potts-Datema 2005; Wittberg et al 2009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besity disproportionately affects minority populations.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Ogden &amp; Carroll, 2010; U.S. Department of Health and Human Servic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roduction (Continued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compared to other countries the U.S. students are mediocre.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U.S. Department of Educ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education system has an achievement ga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t is minority students do not perform as well as other stud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rton, L.J., &amp; VanHeest,J.L.;2008, James B Hunt, Jr. Institute for Educational Leadership and Policy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or grades can be detriment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ow self esteem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James B. Hunt Jr. Institute for Educational Leadership and Policy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pression (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erman et al, 2008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havioral problems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Johnson et al, 2005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d mo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 of the Probl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ysical education classes are being eliminated in the hopes of improving grades (Chomitz et al 2009,Taras &amp; Potts-Datema 2005, Wittberg et al 2010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spite the fact that studies suggest exercise improves cognitive ability.(Chomitz et al 2009,Ellemberg et al, 2010;Hillman et al, 2009; Tomporowski et al, 2008; 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could be detrimental to both academic achievement and physical health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is particularly concerning when it comes to minority students, as they are typically are risk for both obesity and lower grad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(U.S. Department of Health and Human Servic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view of Related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2280" y="6854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09040" indent="-21240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udies have shown a positive relationship between physical activity and cognitive 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udents perform higher on cognitive test taken immediately following aerobic exercise. (Boyle-Holmes et al 2010; Ellemberg et al, 2010;Hillman et al, 2009;Pesce et al, 2009; Tomporowski et al, 2008; 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udies have shown a positive relationship between fitness and academic achievem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at it the more physically fit a student is the higher they score on standardized exams.(Burton et al 2007; Castelli et al 2007;Grissom 2005;Taras et al 2005; Wittberg et al 2009; Wittberg et al 2010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33800" y="685800"/>
            <a:ext cx="4057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udies are unable to show causal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Chomitz et al. 2009; Tomporowski et al, 2008; Wittberg et al 2010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a limited amount of studies with large samples of minority students. (Wittberg, et al. 2010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Hypothe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492480" indent="-205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30 minutes of aerobic exercise will raise the scores of low income, minority first grade students in math and reading on the Terra Nova exam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 </a:t>
            </a:r>
            <a:r>
              <a:rPr b="0" lang="en-US" sz="4000" spc="-1" strike="noStrike">
                <a:solidFill>
                  <a:srgbClr val="7f7f7f"/>
                </a:solidFill>
                <a:latin typeface="Franklin Gothic Book"/>
              </a:rPr>
              <a:t>References</a:t>
            </a:r>
            <a:r>
              <a:rPr b="0" lang="en-US" sz="4000" spc="-1" strike="noStrike">
                <a:solidFill>
                  <a:srgbClr val="7f7f7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urton, L.J., &amp; VanHeest, J.L. (2007). The importance of physical activity in closing the achievement gap. Quest, 59, 212-218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yle-Holmes, T, Grost, L, Russell, L, Laris, B.A., &amp; Robin, L., Haller E., Potter S., Lee S. (2010). Promoting elementary physical education results of a school-based evaluation study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Health Education &amp; Behavior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37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3), 377-389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astelli, D.M., Hillman, C.H., Buck S.M. &amp; Erwin, H.E. (2007). Physical fitness and academic achievement in third and fifth grade students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Sport Exercise Psycholog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29, 239-252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hildhood obesity and academic outcome. (2008)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ames B. Hunt, Jr. Institute for Educational leadership and Polic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homitz, V.R., Slining, M.M., McGowan, R.J., Mitchell, S.E., Dawson, G.F. &amp; Hacker K.A. (2009). Is there a relationship between physical fitness and academic achievement? positive results from public school children in teh bortheastern united states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School Health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79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1), 30-37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llemberg, D., &amp; St-Louis-Deschenes, M. (2010). The effect of acute physical exercise on cognitive function during development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Psychology of Sport and Exercise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122-126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Grissom, J.B. (2005). Physical fitness an academic achievement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Exercise Physiolog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1)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erman, K.C., La,bert, S.F., Reinke, W.M., &amp; Ialongo, N.S. (2008). Academic competence in first grade as a risk factor for depressive cogitations and symptoms in middle school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Counseling Psyhchology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3), 400-410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References (continued)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illman, C.H., Pontifex, M.B., Raine, L.B., Castelli, D.M., Hall, E.E &amp; Kramer A.F. (2009). The effect of acute treadmill walking on cognitive control and academic achievement in preadolescent children 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Neuroscience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159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1044-1054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hnson, W., McGue, M., &amp; Iacono, W.G. (2005). disruptive behavior and school grades: genetic and environmental relations in 11-year-olds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Educational Psycholog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97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3), 391–405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gden, C., &amp; Carroll, M&gt;. Centers for Deisease and Control Prevention, Division of Health and Nutrition Examination Surveys. (2010)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Prevalence of obesity among children and adolescents: united states, trends 1963–1965 through 2007–2008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. Washington, DC: Retrieved from http://www.cdc.gov/nchs/data/hestat/obesity_child_07_08/obesity_child_07_08.htm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esce, C., Croca, C., Cereatti, L., &amp; Bellucci, M. (2009). Physical activity and mental performance in preadolescents: effects of acute exercise on free-recall memory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Mental Health and Physical Activit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2, 16-22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aras, H., &amp; Potts-Datema, W. (2005). Obesity and student performance at school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Journal of School Health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75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8), 291-295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omporowski, P.D., Dacis, C.L., Miller, P.H. , &amp; Naglieri, J.A. (2008). Exercise and children’s intelligence, cognition, and academic achievement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Education Psychol Rev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111-131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ttberg, R., Cottrel, L.A., Davis, C.L., &amp; Northrup, K.L. (2010). Aerobic fitness thresholds associated with fifth grade academicachievement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American Journal of Health Education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41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5), 284-291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ttberg, R., Northrup, K., &amp; Cottrel, L. (2009). Children's physical fitness and academic performance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American Journal of Health Education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2009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40), 1.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U.S. Department of Health and Human Services, Assistant Secretary for Planning and Evaluation. (n.d.)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Childhood obesity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Washington, DC: Retrieved from http://aspe.hhs.gov/health/reports/child_obesity/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U.S. Department of Education, Institute of Education Services. (2009). </a:t>
            </a:r>
            <a:r>
              <a:rPr b="0" i="1" lang="en-US" sz="1600" spc="-1" strike="noStrike">
                <a:solidFill>
                  <a:srgbClr val="000000"/>
                </a:solidFill>
                <a:latin typeface="Perpetua"/>
              </a:rPr>
              <a:t>Special analysis 2009 international assessments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. Washington, DC: Retrieved from http://nces.ed.gov/programs/coe/2009/analysis/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3:13:15Z</dcterms:created>
  <dc:creator>circ</dc:creator>
  <dc:description/>
  <dc:language>en-US</dc:language>
  <cp:lastModifiedBy>Robotron</cp:lastModifiedBy>
  <dcterms:modified xsi:type="dcterms:W3CDTF">2010-10-19T19:23:12Z</dcterms:modified>
  <cp:revision>170</cp:revision>
  <dc:subject/>
  <dc:title>Overeating and Underachieving: </dc:title>
</cp:coreProperties>
</file>